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1FE7-F92F-4FBE-9FE1-142F9359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B6B0-089E-4DAE-A8B0-EA169234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5054-DDF6-44E6-AAF2-043E2EA6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B5BD-482D-4738-835B-60FF474F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875-82EE-4962-89F3-BF17511A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ED97-2722-47D1-847A-43460EB2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FFA6-25B9-4B89-9D2C-8BFF9F2E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B2A7-3799-41CF-8D3E-4767532E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113A-B410-4D49-896C-1D179FDE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7E41-FC36-46C8-8CBD-CCEB946F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4EA7-BE33-4ED5-9DB7-B22131F8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9DC9-ADDC-406E-8FFC-74C01476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7276-75DB-43C3-B850-7D966A78153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36196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ak-hak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wan Perwakilan Raky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ak interpela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lah hak DPR untuk meminta keterangan kepada Pemerintah mengenai kebijakan Pemerintah yang penting dan strategis serta berdampak luas pada kehidupan bermasyarakat, berbangsa, dan bernega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ak angk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lah hak DPR untuk melakukan penyelidikan terhadap pelaksanaan suatu undang-undang dan/atau kebijakan Pemerintah yang berkaitan dengan hal penting, strategis, dan berdampak luas pada kehidupan bermasyarakat, berbangsa, dan bernegara yang diduga bertentangan dengan peraturan perundang-undang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ak menyatakan pendap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ak menyatakan pendapat adalah hak DPR untuk menyatakan pendapat ata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ebijakan Pemerintah atau mengenai kejadian luar biasa yang terjadi di tanah air atau di dunia internasion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indak lanjut pelaksanaan hak interpelasi dan hak angk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ugaan bahwa Presiden dan/atau Wakil Presiden melakukan pelanggaran hukum baik berupa pengkhianatan terhadap negara, korupsi, penyuapan, tindak pidana berat lainnya, maupun perbuatan tercela, dan/atau Presiden dan/atau Wakil Presiden tidak lagi memenuhi syarat sebagai Presiden dan/atau Wakil Preside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ak imuni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lah kekebalan hukum dimana setiap anggota DPR tidak dapat dituntut di hadapan dan di luar pengadilan karena pernyataan, pertanyaan/pendapat yang dikemukakan secara lisan ataupun tertulis dalam rapat-rapat DPR, sepanjang tidak bertentangan dengan Peraturan Tata Tertib dan kode eti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2:55:30Z</dcterms:created>
  <dc:creator>UNY</dc:creator>
  <dc:description/>
  <dc:language>en-US</dc:language>
  <cp:lastModifiedBy>UNY</cp:lastModifiedBy>
  <dcterms:modified xsi:type="dcterms:W3CDTF">2014-04-14T02:17:08Z</dcterms:modified>
  <cp:revision>2</cp:revision>
  <dc:subject/>
  <dc:title>Hak-hak dewan perwakilan rakyat</dc:title>
</cp:coreProperties>
</file>